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3582-F4AB-4856-9651-2021F573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1787-81CD-4825-A208-CB0190AB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EF0D-DEE2-4604-9CCE-A3508696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C82-DF40-4725-88A3-51063C9D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CC0C-04AA-4A4B-8BBE-082BA993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A2E5-76C7-4DFF-B0B1-4FFAC347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6283-C012-47F3-A2B6-F5FAEAF6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2E65-082B-4DF9-B15C-785DEADE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10DE-09FD-4A5B-8CBE-F0EE037B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E94-A303-4638-8B93-64ACC8F1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B07A-93C4-4AF2-9A0D-F0852BC1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C0E-D5FA-420D-8967-524A296C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34DD-F9AE-4259-96D1-B09235B368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109.JPG"/>
          <p:cNvPicPr/>
          <p:nvPr/>
        </p:nvPicPr>
        <p:blipFill>
          <a:blip r:embed="rId1"/>
          <a:stretch/>
        </p:blipFill>
        <p:spPr>
          <a:xfrm>
            <a:off x="3780000" y="677880"/>
            <a:ext cx="4608360" cy="49118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611280" y="1665360"/>
            <a:ext cx="38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ffffff"/>
                </a:solidFill>
                <a:latin typeface="Calibri"/>
              </a:rPr>
              <a:t>Knock Knoc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Th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John 20:19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091.JPG"/>
          <p:cNvPicPr/>
          <p:nvPr/>
        </p:nvPicPr>
        <p:blipFill>
          <a:blip r:embed="rId1"/>
          <a:stretch/>
        </p:blipFill>
        <p:spPr>
          <a:xfrm>
            <a:off x="684360" y="2565360"/>
            <a:ext cx="5003640" cy="41036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"/>
          <p:cNvSpPr/>
          <p:nvPr/>
        </p:nvSpPr>
        <p:spPr>
          <a:xfrm>
            <a:off x="4284720" y="476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After Jesus leaves again, even though his body isn’t the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they don’t feel al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It is like he is still the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ose in every br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Dec_PlasticineModels-13.jpg"/>
          <p:cNvPicPr/>
          <p:nvPr/>
        </p:nvPicPr>
        <p:blipFill>
          <a:blip r:embed="rId2"/>
          <a:stretch/>
        </p:blipFill>
        <p:spPr>
          <a:xfrm>
            <a:off x="5823000" y="3068640"/>
            <a:ext cx="2781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093.JPG"/>
          <p:cNvPicPr/>
          <p:nvPr/>
        </p:nvPicPr>
        <p:blipFill>
          <a:blip r:embed="rId1"/>
          <a:stretch/>
        </p:blipFill>
        <p:spPr>
          <a:xfrm>
            <a:off x="2340000" y="765000"/>
            <a:ext cx="6445080" cy="4295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324000" y="3357720"/>
            <a:ext cx="532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But th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Knock kno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Knock kno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Who’s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Knock kno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It’s me! Thomas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The friends let Thomas in – and tell him “Jesus was here! He’s al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093.JPG"/>
          <p:cNvPicPr/>
          <p:nvPr/>
        </p:nvPicPr>
        <p:blipFill>
          <a:blip r:embed="rId1"/>
          <a:stretch/>
        </p:blipFill>
        <p:spPr>
          <a:xfrm>
            <a:off x="358920" y="765000"/>
            <a:ext cx="8569080" cy="5712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"/>
          <p:cNvSpPr/>
          <p:nvPr/>
        </p:nvSpPr>
        <p:spPr>
          <a:xfrm>
            <a:off x="468360" y="987480"/>
            <a:ext cx="55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But Thomas can’t believe th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You say you have all seen and touched him – I would need to see and touch him too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074.JPG"/>
          <p:cNvPicPr/>
          <p:nvPr/>
        </p:nvPicPr>
        <p:blipFill>
          <a:blip r:embed="rId1"/>
          <a:stretch/>
        </p:blipFill>
        <p:spPr>
          <a:xfrm>
            <a:off x="5651640" y="998640"/>
            <a:ext cx="2736720" cy="4464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"/>
          <p:cNvSpPr/>
          <p:nvPr/>
        </p:nvSpPr>
        <p:spPr>
          <a:xfrm>
            <a:off x="611280" y="836640"/>
            <a:ext cx="588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A week goes by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Tues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Wednes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Fri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Satur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2286000" y="25509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Knock kno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Who’s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Knock kno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Who’s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Knock kno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Who’s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074.JPG"/>
          <p:cNvPicPr/>
          <p:nvPr/>
        </p:nvPicPr>
        <p:blipFill>
          <a:blip r:embed="rId1"/>
          <a:stretch/>
        </p:blipFill>
        <p:spPr>
          <a:xfrm>
            <a:off x="5651640" y="998640"/>
            <a:ext cx="2736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324000" y="115920"/>
            <a:ext cx="84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Andrew, John, Peter and James are the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Bartholomew, Thaddeus, Phillip, Matthew, and Simon are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and Thomas is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Jesus’ following friends are in a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The door is sh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093.JPG"/>
          <p:cNvPicPr/>
          <p:nvPr/>
        </p:nvPicPr>
        <p:blipFill>
          <a:blip r:embed="rId1"/>
          <a:stretch/>
        </p:blipFill>
        <p:spPr>
          <a:xfrm>
            <a:off x="1979640" y="2109960"/>
            <a:ext cx="662472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179280" y="260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And with no Knock kno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Jesus is in the room again. “Thomas! We are still frie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See and touch my hands and body – see it really is m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091.JPG"/>
          <p:cNvPicPr/>
          <p:nvPr/>
        </p:nvPicPr>
        <p:blipFill>
          <a:blip r:embed="rId1"/>
          <a:srcRect l="-1172" t="-1614" r="0" b="0"/>
          <a:stretch/>
        </p:blipFill>
        <p:spPr>
          <a:xfrm>
            <a:off x="2700360" y="1989000"/>
            <a:ext cx="61927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092.JPG"/>
          <p:cNvPicPr/>
          <p:nvPr/>
        </p:nvPicPr>
        <p:blipFill>
          <a:blip r:embed="rId1"/>
          <a:stretch/>
        </p:blipFill>
        <p:spPr>
          <a:xfrm>
            <a:off x="666720" y="404640"/>
            <a:ext cx="7866000" cy="4608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4140360" y="530064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I really died and really came aliv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“… </a:t>
            </a: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and you really are God,”          says Tho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250920" y="3824640"/>
            <a:ext cx="460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Knock kno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Knock kno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Who’s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Thoma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Spread the good new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Jesus is alive – his good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is everywhe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109.JPG"/>
          <p:cNvPicPr/>
          <p:nvPr/>
        </p:nvPicPr>
        <p:blipFill>
          <a:blip r:embed="rId1"/>
          <a:stretch/>
        </p:blipFill>
        <p:spPr>
          <a:xfrm>
            <a:off x="3780000" y="677880"/>
            <a:ext cx="460836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1763640" y="5589720"/>
            <a:ext cx="603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Doors can’t keep him out, graves can’t hold him down, death can’t knock him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074.JPG"/>
          <p:cNvPicPr/>
          <p:nvPr/>
        </p:nvPicPr>
        <p:blipFill>
          <a:blip r:embed="rId1"/>
          <a:stretch/>
        </p:blipFill>
        <p:spPr>
          <a:xfrm>
            <a:off x="539640" y="988920"/>
            <a:ext cx="1584360" cy="2584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Dec_PlasticineModels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2700360" y="1268280"/>
            <a:ext cx="338436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Dec_PlasticineModels-13.jpg"/>
          <p:cNvPicPr/>
          <p:nvPr/>
        </p:nvPicPr>
        <p:blipFill>
          <a:blip r:embed="rId3"/>
          <a:stretch/>
        </p:blipFill>
        <p:spPr>
          <a:xfrm>
            <a:off x="6300720" y="1035000"/>
            <a:ext cx="24480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403280" y="2492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Knock kno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Who’s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Knock kno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Who’s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074.JPG"/>
          <p:cNvPicPr/>
          <p:nvPr/>
        </p:nvPicPr>
        <p:blipFill>
          <a:blip r:embed="rId1"/>
          <a:stretch/>
        </p:blipFill>
        <p:spPr>
          <a:xfrm>
            <a:off x="5651640" y="981000"/>
            <a:ext cx="2736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082.JPG"/>
          <p:cNvPicPr/>
          <p:nvPr/>
        </p:nvPicPr>
        <p:blipFill>
          <a:blip r:embed="rId1"/>
          <a:stretch/>
        </p:blipFill>
        <p:spPr>
          <a:xfrm>
            <a:off x="647640" y="476280"/>
            <a:ext cx="8028000" cy="6024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755640" y="54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Jesus’ following frie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are in a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The door is lo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179280" y="562320"/>
            <a:ext cx="655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Knock kno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They are all afraid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Knock knock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their knees are knocking in fe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They are all very s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because their fri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Jesus has been ki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074.JPG"/>
          <p:cNvPicPr/>
          <p:nvPr/>
        </p:nvPicPr>
        <p:blipFill>
          <a:blip r:embed="rId1"/>
          <a:stretch/>
        </p:blipFill>
        <p:spPr>
          <a:xfrm>
            <a:off x="4932360" y="1125360"/>
            <a:ext cx="2735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064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468360" y="404640"/>
            <a:ext cx="8315280" cy="54961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5148360" y="333360"/>
            <a:ext cx="37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Knock knock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a hammer hit the nai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on the big wooden cross where Jesus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Dec_PlasticineModels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-30240" y="260280"/>
            <a:ext cx="9051840" cy="54007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1116000" y="422100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Knock knock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Some women went to look in the cave where Jesus had been bur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Knock Kno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Who’s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No one was t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684360" y="177336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Knock knock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now they are wonde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and afraid and s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The door is lock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and they don’t w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anyone to 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and ‘knock knoc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074.JPG"/>
          <p:cNvPicPr/>
          <p:nvPr/>
        </p:nvPicPr>
        <p:blipFill>
          <a:blip r:embed="rId1"/>
          <a:stretch/>
        </p:blipFill>
        <p:spPr>
          <a:xfrm>
            <a:off x="5651640" y="981000"/>
            <a:ext cx="2736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250920" y="466272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But sudde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With no ‘knock knock!’ on the do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and no squeak of the hinges, and no turn of the hand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Jesus  -- their very, very best friend is t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Not dead, not buried, not sad, not afraid – but al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087.JPG"/>
          <p:cNvPicPr/>
          <p:nvPr/>
        </p:nvPicPr>
        <p:blipFill>
          <a:blip r:embed="rId1"/>
          <a:stretch/>
        </p:blipFill>
        <p:spPr>
          <a:xfrm>
            <a:off x="755640" y="333360"/>
            <a:ext cx="7632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89.JPG"/>
          <p:cNvPicPr/>
          <p:nvPr/>
        </p:nvPicPr>
        <p:blipFill>
          <a:blip r:embed="rId1"/>
          <a:stretch/>
        </p:blipFill>
        <p:spPr>
          <a:xfrm>
            <a:off x="1619280" y="260280"/>
            <a:ext cx="6110280" cy="47530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250920" y="54151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They talk and laugh.  Jesus smiles and tells them good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6:43:00Z</dcterms:created>
  <dc:creator>Beth Barnett</dc:creator>
  <dc:description/>
  <dc:language>en-US</dc:language>
  <cp:lastModifiedBy>UCA</cp:lastModifiedBy>
  <dcterms:modified xsi:type="dcterms:W3CDTF">2018-04-05T06:03:59Z</dcterms:modified>
  <cp:revision>9</cp:revision>
  <dc:subject/>
  <dc:title>Knock Knock</dc:title>
</cp:coreProperties>
</file>