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6D00-BDB5-409D-9726-2207E8EA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05F-323D-459A-AAA8-4C81023D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6F38-0BA2-4BC1-B0EB-69454A6D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E9D7-76BE-40C6-B93D-B609310D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EB6A-D107-4020-87D8-32E02E64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1C84-A38C-4D31-B8A0-ADBA3AEA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A95-0FB2-4BAB-ABBE-9D4C2C0E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0784-6145-4542-9CD6-525C034F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B476-585E-4197-885F-D46D725E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280C-A7B7-44E8-95E2-BD0D2BD1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0FE6-D89C-45B1-A5E8-CDE20458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7CD-3097-4554-B010-945ED198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4371-9277-4D6C-87F4-C92543820999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080.JPG"/>
          <p:cNvPicPr/>
          <p:nvPr/>
        </p:nvPicPr>
        <p:blipFill>
          <a:blip r:embed="rId1"/>
          <a:stretch/>
        </p:blipFill>
        <p:spPr>
          <a:xfrm>
            <a:off x="4716360" y="1341360"/>
            <a:ext cx="3635640" cy="37432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826920" y="1484280"/>
            <a:ext cx="223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ffffff"/>
                </a:solidFill>
                <a:latin typeface="Calibri"/>
              </a:rPr>
              <a:t>Hang 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The V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John 15:1-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0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6372360" y="4508640"/>
            <a:ext cx="25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t meets and twists and tangles with other branches, but they are all connected in to the trun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324000" y="3645000"/>
            <a:ext cx="536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Sometim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it’s hard to see ho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But every bran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and every bun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hang on together as one v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And togeth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they all keep living and grow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099.JPG"/>
          <p:cNvPicPr/>
          <p:nvPr/>
        </p:nvPicPr>
        <p:blipFill>
          <a:blip r:embed="rId1"/>
          <a:stretch/>
        </p:blipFill>
        <p:spPr>
          <a:xfrm>
            <a:off x="3059280" y="333360"/>
            <a:ext cx="5689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02.JPG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3708360" y="538812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f they didn’t hang on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oops, like this on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hey wouldn’t gro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7f94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7f94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099.JPG"/>
          <p:cNvPicPr/>
          <p:nvPr/>
        </p:nvPicPr>
        <p:blipFill>
          <a:blip r:embed="rId1"/>
          <a:stretch/>
        </p:blipFill>
        <p:spPr>
          <a:xfrm>
            <a:off x="2627280" y="647640"/>
            <a:ext cx="6300720" cy="4726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108000" y="260280"/>
            <a:ext cx="6480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Jesus says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hang on to 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I’m like the v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that hangs 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to yo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And to hang 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to m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is to hang 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to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And hang 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to each othe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as you hang 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to m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God is hanging 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to us al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064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3635280" y="40464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Here’s a little grap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She’s very smal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4716360" y="836640"/>
            <a:ext cx="352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But look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She’s not al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She has a bunch of fri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They hang around togeth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2" descr="073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080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5076720" y="4005360"/>
            <a:ext cx="37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And look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they are all connect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Each of them h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a little ste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that hangs 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to the bunch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081.JPG"/>
          <p:cNvPicPr/>
          <p:nvPr/>
        </p:nvPicPr>
        <p:blipFill>
          <a:blip r:embed="rId1"/>
          <a:stretch/>
        </p:blipFill>
        <p:spPr>
          <a:xfrm>
            <a:off x="0" y="-195120"/>
            <a:ext cx="9144000" cy="7053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87280" y="5300640"/>
            <a:ext cx="40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nd they grow togeth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he whole bun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hangs on to a branch.</a:t>
            </a: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087.JPG"/>
          <p:cNvPicPr/>
          <p:nvPr/>
        </p:nvPicPr>
        <p:blipFill>
          <a:blip r:embed="rId1"/>
          <a:stretch/>
        </p:blipFill>
        <p:spPr>
          <a:xfrm>
            <a:off x="5003640" y="1916280"/>
            <a:ext cx="3097440" cy="316836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611280" y="981000"/>
            <a:ext cx="266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And the bran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reach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way, way back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087.JPG"/>
          <p:cNvPicPr/>
          <p:nvPr/>
        </p:nvPicPr>
        <p:blipFill>
          <a:blip r:embed="rId1"/>
          <a:stretch/>
        </p:blipFill>
        <p:spPr>
          <a:xfrm>
            <a:off x="4427640" y="1125360"/>
            <a:ext cx="4105080" cy="4824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1118160" y="119700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back a bit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087.JPG"/>
          <p:cNvPicPr/>
          <p:nvPr/>
        </p:nvPicPr>
        <p:blipFill>
          <a:blip r:embed="rId1"/>
          <a:stretch/>
        </p:blipFill>
        <p:spPr>
          <a:xfrm>
            <a:off x="2627280" y="765000"/>
            <a:ext cx="6300720" cy="542952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324000" y="476280"/>
            <a:ext cx="35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back a b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further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that’s i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4572000" y="21337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Right back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but hanging on all the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6e0ec"/>
                </a:solidFill>
                <a:latin typeface="Calibri"/>
              </a:rPr>
              <a:t>The branch goes back to the trunk</a:t>
            </a: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en-AU" sz="2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093.JPG"/>
          <p:cNvPicPr/>
          <p:nvPr/>
        </p:nvPicPr>
        <p:blipFill>
          <a:blip r:embed="rId1"/>
          <a:stretch/>
        </p:blipFill>
        <p:spPr>
          <a:xfrm>
            <a:off x="-3636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08:23:31Z</dcterms:created>
  <dc:creator>Beth Barnett</dc:creator>
  <dc:description/>
  <dc:language>en-US</dc:language>
  <cp:lastModifiedBy>UCA</cp:lastModifiedBy>
  <dcterms:modified xsi:type="dcterms:W3CDTF">2018-04-06T06:22:40Z</dcterms:modified>
  <cp:revision>7</cp:revision>
  <dc:subject/>
  <dc:title>Hang On</dc:title>
</cp:coreProperties>
</file>